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ACC6-869C-4404-86D3-1FCF18D7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27000"/>
            <a:ext cx="822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42480"/>
            <a:ext cx="822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408-B165-4E33-BB49-9905A1DA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2700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2700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4248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4248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1048-BDFC-40EC-9E90-FD256501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27000"/>
            <a:ext cx="264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27000"/>
            <a:ext cx="264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27000"/>
            <a:ext cx="264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42480"/>
            <a:ext cx="264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42480"/>
            <a:ext cx="264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42480"/>
            <a:ext cx="264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5001-2EAD-43BC-B17F-6A2EB99E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2700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3212-9BF9-4B0F-9DEB-FB81B2AB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2700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4BCF-9392-4036-AB4A-819CEE43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27000"/>
            <a:ext cx="40158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27000"/>
            <a:ext cx="40158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6C8B-7105-4E9F-B019-C102D909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EEE7-95EA-4DFC-BEAB-7000BF49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9127-11A5-43EE-9AF6-C823568B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2700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27000"/>
            <a:ext cx="40158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4248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20E0-F9FF-4060-AB33-D02B2F70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27000"/>
            <a:ext cx="40158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2700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4248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13AA-4310-4CE9-B26D-FD131AC1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2700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2700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42480"/>
            <a:ext cx="822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4A6F-7A08-4550-B260-AAAE090B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2700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016FE0-FEB0-4AB8-B16F-640991871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关于“小学期赴伟创力综合实践”报名说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3280" y="911160"/>
            <a:ext cx="857880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各位同学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以下幻灯片展示的是伟创力给出的在小学期具体实践的项目，因为人数有限且有一定要求，现采取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公开报名，择优录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的方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报名同学需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宋体"/>
              </a:rPr>
              <a:t>提交一份个人详细简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（最好附个人电子照片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注明专业方向、年级、联系方式等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），并根据个人擅长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宋体"/>
              </a:rPr>
              <a:t>选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以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个项目中的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宋体"/>
              </a:rPr>
              <a:t>1-2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宋体"/>
              </a:rPr>
              <a:t>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简历提交打印版，交至综合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c20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侯芬老师信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截止日期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Multek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  <a:ea typeface="宋体"/>
              </a:rPr>
              <a:t>（需更详细的说明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2700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Nam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L engag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项目名称：直接员工雇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Sco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design and delivering operator survey and find the solutions on how to make DL eng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项目范围：设计实施操作工调查，就直接员工雇佣提出解决方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ge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endy Xie/Joan T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s requir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: 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mpus L&amp;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2700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Nam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ositive energy video design &amp; shoot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项目名称：正能量视频的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&amp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拍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Sco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design the script and shooting videos  to transfer positive energy for employees (DL &amp; IDL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项目范围：设计脚本和拍摄视频向职员（直接员工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&amp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间接员工）传递正能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ge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eo Ch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quiremen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reative, be good at video editing software, such as Corel Videostudio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要求：创意、擅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v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编辑软件，例如会声会影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s requir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: 2~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3"/>
          <p:cNvSpPr txBox="1"/>
          <p:nvPr/>
        </p:nvSpPr>
        <p:spPr>
          <a:xfrm>
            <a:off x="1625760" y="2660760"/>
            <a:ext cx="6121080" cy="11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Impact"/>
              </a:rPr>
              <a:t>Thank You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5568840"/>
            <a:ext cx="85564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From Personal Mastery to Systems Thinking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-FY13 Learning Season Overview </a:t>
            </a:r>
            <a:br>
              <a:rPr sz="14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L&amp;D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2012 Ma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927000"/>
          <a:ext cx="8229600" cy="5289480"/>
        </p:xfrm>
        <a:graphic>
          <a:graphicData uri="http://schemas.openxmlformats.org/drawingml/2006/table">
            <a:tbl>
              <a:tblPr/>
              <a:tblGrid>
                <a:gridCol w="1766880"/>
                <a:gridCol w="2911320"/>
                <a:gridCol w="1729080"/>
                <a:gridCol w="18223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eeece1"/>
                          </a:solidFill>
                          <a:latin typeface="Calibri"/>
                          <a:ea typeface="宋体"/>
                        </a:rPr>
                        <a:t>Organ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eeece1"/>
                          </a:solidFill>
                          <a:latin typeface="Calibri"/>
                          <a:ea typeface="宋体"/>
                        </a:rPr>
                        <a:t>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eeece1"/>
                          </a:solidFill>
                          <a:latin typeface="Calibri"/>
                          <a:ea typeface="宋体"/>
                        </a:rPr>
                        <a:t>Project Mg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eeece1"/>
                          </a:solidFill>
                          <a:latin typeface="Calibri"/>
                          <a:ea typeface="宋体"/>
                        </a:rPr>
                        <a:t>Interns Requir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BCPA-B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experiential training for DLs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direct labo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直接员工体验式培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Luoisa Q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BCPA-B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ulture promotion to DL group/DL exit interview and analysis/stress relief activities to all sta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针对直接员工的文化推广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直接员工离职面谈与原因分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针对全体员工的减压活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Holman H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PCBA-B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First-line managers’ management style surv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一线管理人员的管理风格调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John Q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Me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Operator Mindset Study and Solu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操作工的心态研究与解决方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hirley &amp; Jazz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Mult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DL engage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直接员工的雇佣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Wendy Xie&amp;Joan T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ampus L&amp;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Positive energy video design &amp; shootin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正能量 视频设计与拍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Leo 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CPA-B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2700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Nam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xperiential training for D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项目名称：直接员工体验式培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Sco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design and delivering experienti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vities for operators, and help front line leaders to enhance all team member’ sense of belonging, the team consciousness and improve the team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项目范围：针对操作工设计及实施体验式活动，帮助一线领导者加强团队成员归属感、团队意识，提高团队绩效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ge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uoisa Q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s requir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: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实习生要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CPA-B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2700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-1 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ulture promotion to DL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项目名称：针对直接员工的文化推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ob focus: design and make a series of poster to D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工作重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设计制作一系列针对直接员工的海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ment: creative, be good at Photoshop or other design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要求：创意、擅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otoshop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或者其他设计工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-2 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L exit interview and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项目名称：直接员工离职面谈与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ob focus: exit interview and analysis the root ca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工作重点：离职面谈并分析根本原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ment: friendly, good commun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要求：友好，良好的沟通能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CPA-B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2700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roject-3 na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stress relief activities to all sta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项目名称：针对全体员工的减压活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b focus: several times activity aim to relieve 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工作重点：几次减压活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ment: psychology professional, design and conduct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要求：心理学专业，设计实施活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roject Manger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man H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terns require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CBA-B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2700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Nam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irst-line managers’ management style surv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项目名称：基层管理者管理风格调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Sco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design and delivering series survey for first-line mangers, and analyze  the results to diagnose what is their management style and give related sugges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项目范围：设计并实施针对一线管理者的系列调查，分析结果，诊断管理者风格并提出相关建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ge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John Q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s requir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: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ech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（多个项目综合，建议精简至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宋体"/>
              </a:rPr>
              <a:t>1-2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个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2700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ject Name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perator Mindset Study and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项目名称：操作工心态研究和解决方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ject Scop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design and delivering operator Mindset Study and try to find the solutions, covering at leas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项目范围：设计并实施操作工心态研究方案，寻求解决方案，至少包括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’s Logic on Evaluating a Company/Satisfaction, and how does that apply to Mech ZH in terms of satisfaction and suggestions for improve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操作工评估公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满意度的逻辑；如何将满意度提升建议应用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ch Z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trigger operators to leave and what are the real accumulating reason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引发操作工离职的原因以及实际累积的原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ourse on helping operators to make the right decision on career development, under what circumstances they should consider switching job et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关于帮助操作工做出正确的职业发展决策的一门课程，在何种情况下他们应该考虑工作转换等问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s operator’s mindset on internal transfer/rotation and how to let them rotate/be transferred easily (a scheme, a set of rules et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操作工对内部调动持何种心态；如何让他们易于接受轮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调动（一个方案、一组结果等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2700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ject Name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perator Mindset Study and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项目名称：操作工心态研究和解决方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ject Scop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design and delivering operator Mindset Study and try to find the solutions, covering at leas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项目范围：设计并实施操作工心态研究方案，寻求解决方案，至少包括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are making some operators (with one+ year seniority) stay so long?  How to leverage those reason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导致某些员工（一年以上工龄）待得更长久的原因是什么？如何发挥这些原因的影响力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we are to have environmental allowance for operators, what is the logic/model from operator’s point of view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如果我们将为操作工提供环境津贴，操作工的逻辑观点是什么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ject Manger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hirley and Jazz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ns require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0:36:12Z</dcterms:created>
  <dc:creator>hkg01828</dc:creator>
  <dc:description/>
  <dc:language>en-US</dc:language>
  <cp:lastModifiedBy>User</cp:lastModifiedBy>
  <dcterms:modified xsi:type="dcterms:W3CDTF">2013-05-06T09:42:17Z</dcterms:modified>
  <cp:revision>396</cp:revision>
  <dc:subject/>
  <dc:title>Focus Group Discussion Workshop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3914</vt:lpwstr>
  </property>
</Properties>
</file>